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852-1581-471E-910D-05870B84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B0F-2B0B-49CF-A43D-352FC6F7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3BA-E899-4762-AA01-B283F74D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CD1-C719-4789-9645-AE401CF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31436-C7F0-4540-B6AA-4B993B12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445F1-D8F3-4B2A-90FC-4889EBF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0791-5BDB-44B6-ABDE-E74C6515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518B-3DAB-4043-B8B6-D67E007A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00DE8-DDA2-479C-B6D9-ABDD9AD8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DCA8-AC03-42C4-9B25-8295EC3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18EB9-F66E-431B-BE25-ABA7E63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715-601F-46D3-BDCA-F971DB3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C1B46-A503-4D83-9AC4-060972E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4766-EAE4-469D-BA19-1746230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7931F-49F5-43CF-80FF-28212D6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9160B-5B85-4708-B15B-C3F8DC4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B056-CB26-42F5-90F2-1D66A674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596-4CA0-4372-9A23-B6E27C8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5F2-FCD6-47DF-A324-C888C4C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17E-497A-4FA8-8E21-F50CF5C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A82-F298-4CD4-92D0-C121A7E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F34-21C3-46BA-8276-B58A3BAB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89D-59C9-465B-BDE8-0D09CDC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A45-FD70-4A81-B460-8B7718D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23C-5DEB-489F-9495-A114EE57B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E6F-DFE2-4734-803D-7B8E39D82C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l-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Pea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response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terions for becoming a juror have changed, once jurors were witness’s who already knew the facts of a case but now jurors are suppose to know nothing about a case before t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rt:activity::______: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:bland::color: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 Ke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teria for becoming a juror have changed. Once jurors were witnesses who already knew the facts of a case, but now jurors are supposed to know nothing about a case before t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21:09Z</dcterms:created>
  <dc:creator>student</dc:creator>
  <dc:description/>
  <dc:language>en-US</dc:language>
  <cp:lastModifiedBy>Angie McCall</cp:lastModifiedBy>
  <dcterms:modified xsi:type="dcterms:W3CDTF">2011-09-26T19:58:49Z</dcterms:modified>
  <cp:revision>3</cp:revision>
  <dc:subject/>
  <dc:title>English</dc:title>
</cp:coreProperties>
</file>